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7BF-9461-4205-A70F-786C625B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E6A-07E7-4D5B-8E2A-271E2E0E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7FF-11D2-419E-877E-15067C2B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1CD-5496-408E-8AF9-F7157072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9716-1F5D-4B04-9353-0810DA33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FB1F-C34C-4010-85DD-7186FE0E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6629-D139-488A-8684-EFCF7F6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AB7B-07E5-4E4D-BE7B-39F337C5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333E-25C8-4F48-89F1-7279603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619F-3FEF-4246-8EA1-9A08BF67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11FB-22B6-4C94-8F07-314BE276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F55-A1CB-4A04-AEC9-BF58A9CA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C729-F5F9-4704-B4D9-9A42A89E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1AA1-2E1D-4119-ABAC-A54652EB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3454-96A2-4DC8-8423-FF146F20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30EC-00E6-43F8-9D9A-73B77F98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357E-5B46-4AC2-B8B5-8DEF2607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FC4-9748-4ED6-9B42-0232912C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9F2-B55A-4CC1-BBE8-96983457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204-9BC2-48F9-8262-606DD0D6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C37-5B70-4EF0-B392-FFA91317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73C-BF53-409D-98FA-A9F8A61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BB4-A098-4678-BE0C-02264342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02D-48AA-4C11-8135-B51F22D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98D5-586E-4015-A131-BCDA60203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98FA-BF14-4E3B-81F2-088E929F5EC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4920" y="88920"/>
            <a:ext cx="8534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09560" y="0"/>
            <a:ext cx="593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066680" y="54000"/>
            <a:ext cx="693432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143000" y="36360"/>
            <a:ext cx="6934320" cy="684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480" y="0"/>
            <a:ext cx="7050240" cy="71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04920" y="-47520"/>
            <a:ext cx="8534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07732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36640" y="0"/>
            <a:ext cx="568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2:35:32Z</dcterms:created>
  <dc:creator>PSD</dc:creator>
  <dc:description/>
  <dc:language>en-US</dc:language>
  <cp:lastModifiedBy>InstructorCF</cp:lastModifiedBy>
  <dcterms:modified xsi:type="dcterms:W3CDTF">2009-04-29T16:11:25Z</dcterms:modified>
  <cp:revision>1</cp:revision>
  <dc:subject/>
  <dc:title>PowerPoint Presentation</dc:title>
</cp:coreProperties>
</file>